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16B0-4A29-4E10-AF42-1C88AA83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C04-7678-4E49-BBCB-D850A481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5A9-EC2D-4FA6-B28F-FBD22EBF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14B-C453-44B2-8473-12C5A09B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703-39FB-4608-BBB4-F4E76179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895-8D5D-44F0-A2C6-1FA20AB7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172-2995-4ADD-A821-FC11B125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436-1C94-4FBD-A1C3-9156CD4F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3EC-9597-4E3D-BD54-B391A918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FDD6-938C-43BA-BCDB-8474A3A3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554-EA9C-4D46-8361-87AF36CC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2B93-96B5-4692-AC62-07BBFD13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DCCC-0F88-4344-9369-3E6E97D74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llect for P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mighty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whom all hearts are op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desires know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from whom no secr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hidd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leanse the thoughts of our he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inspi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your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at we may perfectly love you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orthily magnif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holy na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Christ our Lord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9:59:40Z</dcterms:created>
  <dc:creator>Anon Anon</dc:creator>
  <dc:description/>
  <dc:language>en-US</dc:language>
  <cp:lastModifiedBy>Anon Anon</cp:lastModifiedBy>
  <dcterms:modified xsi:type="dcterms:W3CDTF">2005-08-09T05:34:13Z</dcterms:modified>
  <cp:revision>11</cp:revision>
  <dc:subject/>
  <dc:title>PowerPoint Presentation</dc:title>
</cp:coreProperties>
</file>